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F5B0-6C00-4D6B-92B1-C614400F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4E51-335C-422F-B5E0-6FB38604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870C-C478-46DE-A135-CA35DB2E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7EF3-1CEC-4339-9403-F2648D62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EBD2-0877-4BC7-804F-BD070B84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C17E-D362-4C47-9ED2-E671ABF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B65C-2691-42D5-8918-D750B93E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A583-84D9-4FE2-947E-ABD97F5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4B29-4C80-4AF5-B9BD-AFB19D4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3F45-0916-40CF-BBDC-909479F8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A58F-A82C-4E62-86C2-A93E3526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25D5-5364-46B2-80AB-26AE5C3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24A3-C071-4461-A21F-2DDDE611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CA2-41B0-4920-87A9-3D5CA9F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ECB9-B5B1-4BBD-AE07-30A5452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9271-6B85-4947-BDB8-6D4DAE3B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1566-E960-4795-8ACD-3549ECC8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5C47-BBFB-4EB2-A568-41BD4B67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68B1-F00B-4248-AAB5-833AB5E3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BC66-EB24-4890-836E-3D830639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3C34-825B-4085-94CD-0412524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4D09-E357-4CDD-9814-FA8EF62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FBEC-3C92-4C3E-A3A7-636CA807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4D5B-0CE2-4E79-8AF0-B03D7ACB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06A3-1E68-4D92-819E-1E516A6CFD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AEA7-CB19-4BEA-8B30-540A5403C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lexander Graham Bell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: Jake, Bryan, Stepha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Jaco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ch 26 200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nd his brother built a robot that could t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n’t the only one working on the 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partner who helped him make the telephone was named Thomas Wat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mother was nearly deaf and he had a tough time communicating with 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have to lean on her forehead to talk to 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as born in18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s Invention the Telephon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nvented the teleph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telephone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lephone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844560" cy="1046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3962520" y="4952520"/>
            <a:ext cx="11430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657600" y="3124080"/>
            <a:ext cx="9144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s inventions old na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lephone was not call a telephone then it was call the Harmonic Tele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idea of the Harmonic Telegraph wasn’t only his idea there were other people who tried to make the Harmonic Telegraph not only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about competition for an ide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ad Ending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ham Bell died tragically on 1922 August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age 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0:26Z</dcterms:created>
  <dc:creator>Montour School District</dc:creator>
  <dc:description/>
  <dc:language>en-US</dc:language>
  <cp:lastModifiedBy>Montour School District</cp:lastModifiedBy>
  <dcterms:modified xsi:type="dcterms:W3CDTF">2008-05-22T13:56:59Z</dcterms:modified>
  <cp:revision>12</cp:revision>
  <dc:subject/>
  <dc:title>Alexander Graham Bell</dc:title>
</cp:coreProperties>
</file>